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2.wmf" ContentType="image/x-wmf"/>
  <Override PartName="/ppt/media/image13.png" ContentType="image/png"/>
  <Override PartName="/ppt/media/image7.png" ContentType="image/png"/>
  <Override PartName="/ppt/media/image11.wmf" ContentType="image/x-wmf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CD28-63E0-4036-9340-AA54D2FB1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5403-C9B6-4F95-9038-AC525995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D4B4-3BB8-43A5-A671-633802E42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A0DF-D744-4AD3-8FEA-B77ACD6DC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CA4F-7CAB-4435-9741-8FE0F17DA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8D01-9F39-4419-86D1-4BC14FD2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032D-417C-4832-B783-9A7D940C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C3E6-07F2-4395-AC3D-38807BCE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08B4-08F0-4362-A054-DC1DDE24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FF74-0735-465C-BB41-A2D7E6B2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685A-F514-4C62-9475-BBC910A7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B80A-05FD-4643-A0BF-9932BBE2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F991-C535-478E-AE07-96E8F8FA22A4}" type="slidenum">
              <a:rPr b="0" lang="en-US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df.kg.ac.yu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848720" cy="21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ниверзите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рагујевцу</a:t>
            </a: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акулте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дицинских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ук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920" y="2895120"/>
            <a:ext cx="861048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898989"/>
                </a:solidFill>
                <a:latin typeface="Verdana"/>
              </a:rPr>
              <a:t>ЕЛЕКТРОТЕРАПИЈА</a:t>
            </a:r>
            <a:br>
              <a:rPr sz="3600"/>
            </a:br>
            <a:r>
              <a:rPr b="0" lang="sr-Latn-CS" sz="3600" spc="-1" strike="noStrike">
                <a:solidFill>
                  <a:srgbClr val="898989"/>
                </a:solidFill>
                <a:latin typeface="Verdana"/>
              </a:rPr>
              <a:t>-</a:t>
            </a:r>
            <a:r>
              <a:rPr b="0" lang="sr-CS" sz="3600" spc="-1" strike="noStrike">
                <a:solidFill>
                  <a:srgbClr val="898989"/>
                </a:solidFill>
                <a:latin typeface="Verdana"/>
              </a:rPr>
              <a:t>Једносмерне</a:t>
            </a:r>
            <a:r>
              <a:rPr b="0" lang="sr-Latn-CS" sz="3600" spc="-1" strike="noStrike">
                <a:solidFill>
                  <a:srgbClr val="898989"/>
                </a:solidFill>
                <a:latin typeface="Verdana"/>
              </a:rPr>
              <a:t> </a:t>
            </a:r>
            <a:r>
              <a:rPr b="0" lang="sr-CS" sz="3600" spc="-1" strike="noStrike">
                <a:solidFill>
                  <a:srgbClr val="898989"/>
                </a:solidFill>
                <a:latin typeface="Verdana"/>
              </a:rPr>
              <a:t>струје</a:t>
            </a:r>
            <a:r>
              <a:rPr b="0" lang="sr-Latn-CS" sz="3600" spc="-1" strike="noStrike">
                <a:solidFill>
                  <a:srgbClr val="898989"/>
                </a:solidFill>
                <a:latin typeface="Verdana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320" y="303120"/>
            <a:ext cx="144144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Облици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галванск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тру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716256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400" spc="-1" strike="noStrike" u="sng">
                <a:solidFill>
                  <a:srgbClr val="000000"/>
                </a:solidFill>
                <a:uFillTx/>
                <a:latin typeface="Verdana"/>
              </a:rPr>
              <a:t>Галванска</a:t>
            </a:r>
            <a:r>
              <a:rPr b="0" lang="sr-Latn-CS" sz="5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sr-CS" sz="5400" spc="-1" strike="noStrike" u="sng">
                <a:solidFill>
                  <a:srgbClr val="000000"/>
                </a:solidFill>
                <a:uFillTx/>
                <a:latin typeface="Verdana"/>
              </a:rPr>
              <a:t>струј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360" y="2362320"/>
            <a:ext cx="8458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не мења ток, не мења ни интензитет ни напон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марн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изичк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кундарн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изиолошк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ловањ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рганиз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звор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алванск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лемен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кумулатор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заснива се на </a:t>
            </a:r>
            <a:r>
              <a:rPr b="0" lang="sr-CS" sz="2800" spc="-1" strike="noStrike">
                <a:solidFill>
                  <a:srgbClr val="ff0000"/>
                </a:solidFill>
                <a:latin typeface="Verdana"/>
              </a:rPr>
              <a:t>особини поларите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1905120" y="914040"/>
            <a:ext cx="5486400" cy="1374840"/>
            <a:chOff x="1905120" y="914040"/>
            <a:chExt cx="5486400" cy="1374840"/>
          </a:xfrm>
        </p:grpSpPr>
        <p:sp>
          <p:nvSpPr>
            <p:cNvPr id="66" name="Line 5"/>
            <p:cNvSpPr/>
            <p:nvPr/>
          </p:nvSpPr>
          <p:spPr>
            <a:xfrm>
              <a:off x="1906920" y="2086200"/>
              <a:ext cx="54846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" name="Line 6"/>
            <p:cNvSpPr/>
            <p:nvPr/>
          </p:nvSpPr>
          <p:spPr>
            <a:xfrm flipV="1">
              <a:off x="1906920" y="914040"/>
              <a:ext cx="0" cy="137484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" name="Line 7"/>
            <p:cNvSpPr/>
            <p:nvPr/>
          </p:nvSpPr>
          <p:spPr>
            <a:xfrm flipV="1">
              <a:off x="1905120" y="1324800"/>
              <a:ext cx="685440" cy="759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" name="Line 8"/>
            <p:cNvSpPr/>
            <p:nvPr/>
          </p:nvSpPr>
          <p:spPr>
            <a:xfrm>
              <a:off x="2598840" y="1307880"/>
              <a:ext cx="342756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" name="Line 9"/>
            <p:cNvSpPr/>
            <p:nvPr/>
          </p:nvSpPr>
          <p:spPr>
            <a:xfrm>
              <a:off x="6068520" y="1307880"/>
              <a:ext cx="579960" cy="759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Verdana"/>
              </a:rPr>
              <a:t>ПРИМАРНО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CS" sz="3600" spc="-1" strike="noStrike">
                <a:solidFill>
                  <a:srgbClr val="000000"/>
                </a:solidFill>
                <a:latin typeface="Verdana"/>
              </a:rPr>
              <a:t>ФИЗИЧКО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sr-CS" sz="3600" spc="-1" strike="noStrike">
                <a:solidFill>
                  <a:srgbClr val="000000"/>
                </a:solidFill>
                <a:latin typeface="Verdana"/>
              </a:rPr>
              <a:t>ДЕЛОВАЊ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3352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Хемијске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промене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јонско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деловање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Електрокинетичке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промене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везане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0" lang="sl-SI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електроосмозу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дифузиј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524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Анафореза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7524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Катафоре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752480" indent="-380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752480" indent="-380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3.Поларни и интерполар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8"/>
          <p:cNvSpPr/>
          <p:nvPr/>
        </p:nvSpPr>
        <p:spPr>
          <a:xfrm>
            <a:off x="1371600" y="2971800"/>
            <a:ext cx="152280" cy="2286000"/>
          </a:xfrm>
          <a:prstGeom prst="rect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Хемијске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промене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јонско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деловање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електрод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049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898560" y="3124080"/>
            <a:ext cx="18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Oval 17"/>
          <p:cNvSpPr/>
          <p:nvPr/>
        </p:nvSpPr>
        <p:spPr>
          <a:xfrm>
            <a:off x="5486400" y="3200400"/>
            <a:ext cx="380880" cy="304920"/>
          </a:xfrm>
          <a:prstGeom prst="ellipse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Oval 20"/>
          <p:cNvSpPr/>
          <p:nvPr/>
        </p:nvSpPr>
        <p:spPr>
          <a:xfrm>
            <a:off x="4724280" y="4724280"/>
            <a:ext cx="228600" cy="228600"/>
          </a:xfrm>
          <a:prstGeom prst="ellipse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Line 23"/>
          <p:cNvSpPr/>
          <p:nvPr/>
        </p:nvSpPr>
        <p:spPr>
          <a:xfrm>
            <a:off x="4952880" y="4648320"/>
            <a:ext cx="2286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Line 24"/>
          <p:cNvSpPr/>
          <p:nvPr/>
        </p:nvSpPr>
        <p:spPr>
          <a:xfrm>
            <a:off x="5638680" y="3124080"/>
            <a:ext cx="152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Line 33"/>
          <p:cNvSpPr/>
          <p:nvPr/>
        </p:nvSpPr>
        <p:spPr>
          <a:xfrm>
            <a:off x="1143000" y="3200400"/>
            <a:ext cx="152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Line 34"/>
          <p:cNvSpPr/>
          <p:nvPr/>
        </p:nvSpPr>
        <p:spPr>
          <a:xfrm>
            <a:off x="1143000" y="3505320"/>
            <a:ext cx="152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Line 36"/>
          <p:cNvSpPr/>
          <p:nvPr/>
        </p:nvSpPr>
        <p:spPr>
          <a:xfrm>
            <a:off x="1143000" y="3809880"/>
            <a:ext cx="152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Line 37"/>
          <p:cNvSpPr/>
          <p:nvPr/>
        </p:nvSpPr>
        <p:spPr>
          <a:xfrm>
            <a:off x="1143000" y="4114800"/>
            <a:ext cx="152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Line 38"/>
          <p:cNvSpPr/>
          <p:nvPr/>
        </p:nvSpPr>
        <p:spPr>
          <a:xfrm>
            <a:off x="1143000" y="4419720"/>
            <a:ext cx="152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Line 39"/>
          <p:cNvSpPr/>
          <p:nvPr/>
        </p:nvSpPr>
        <p:spPr>
          <a:xfrm>
            <a:off x="1143000" y="4800600"/>
            <a:ext cx="152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 Box 44"/>
          <p:cNvSpPr/>
          <p:nvPr/>
        </p:nvSpPr>
        <p:spPr>
          <a:xfrm>
            <a:off x="1523880" y="49528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Garamond"/>
              </a:rPr>
              <a:t>NaO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Rectangle 45"/>
          <p:cNvSpPr/>
          <p:nvPr/>
        </p:nvSpPr>
        <p:spPr>
          <a:xfrm>
            <a:off x="1447200" y="29480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Garamond"/>
              </a:rPr>
              <a:t>NaO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Text Box 46"/>
          <p:cNvSpPr/>
          <p:nvPr/>
        </p:nvSpPr>
        <p:spPr>
          <a:xfrm>
            <a:off x="7467480" y="4876920"/>
            <a:ext cx="914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Garamond"/>
              </a:rPr>
              <a:t>HC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Rectangle 47"/>
          <p:cNvSpPr/>
          <p:nvPr/>
        </p:nvSpPr>
        <p:spPr>
          <a:xfrm>
            <a:off x="7474680" y="2771640"/>
            <a:ext cx="777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Garamond"/>
              </a:rPr>
              <a:t>HC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Group 74"/>
          <p:cNvGrpSpPr/>
          <p:nvPr/>
        </p:nvGrpSpPr>
        <p:grpSpPr>
          <a:xfrm>
            <a:off x="8153280" y="2895480"/>
            <a:ext cx="627480" cy="2133720"/>
            <a:chOff x="8153280" y="2895480"/>
            <a:chExt cx="627480" cy="2133720"/>
          </a:xfrm>
        </p:grpSpPr>
        <p:sp>
          <p:nvSpPr>
            <p:cNvPr id="92" name="Rectangle 9"/>
            <p:cNvSpPr/>
            <p:nvPr/>
          </p:nvSpPr>
          <p:spPr>
            <a:xfrm>
              <a:off x="8153280" y="2971800"/>
              <a:ext cx="152280" cy="2057400"/>
            </a:xfrm>
            <a:prstGeom prst="rect">
              <a:avLst/>
            </a:prstGeom>
            <a:solidFill>
              <a:srgbClr val="4f81b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3" name="Text Box 49"/>
            <p:cNvSpPr/>
            <p:nvPr/>
          </p:nvSpPr>
          <p:spPr>
            <a:xfrm>
              <a:off x="8381880" y="320040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Rectangle 51"/>
            <p:cNvSpPr/>
            <p:nvPr/>
          </p:nvSpPr>
          <p:spPr>
            <a:xfrm>
              <a:off x="8471880" y="350532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Rectangle 52"/>
            <p:cNvSpPr/>
            <p:nvPr/>
          </p:nvSpPr>
          <p:spPr>
            <a:xfrm>
              <a:off x="8471880" y="380988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Rectangle 53"/>
            <p:cNvSpPr/>
            <p:nvPr/>
          </p:nvSpPr>
          <p:spPr>
            <a:xfrm>
              <a:off x="8471880" y="419112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Rectangle 54"/>
            <p:cNvSpPr/>
            <p:nvPr/>
          </p:nvSpPr>
          <p:spPr>
            <a:xfrm>
              <a:off x="8471880" y="457200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Rectangle 55"/>
            <p:cNvSpPr/>
            <p:nvPr/>
          </p:nvSpPr>
          <p:spPr>
            <a:xfrm>
              <a:off x="8395560" y="289548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9" name="Text Box 56"/>
          <p:cNvSpPr/>
          <p:nvPr/>
        </p:nvSpPr>
        <p:spPr>
          <a:xfrm>
            <a:off x="5334120" y="3505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0" name="Group 59"/>
          <p:cNvGrpSpPr/>
          <p:nvPr/>
        </p:nvGrpSpPr>
        <p:grpSpPr>
          <a:xfrm>
            <a:off x="6629400" y="2971800"/>
            <a:ext cx="380880" cy="749160"/>
            <a:chOff x="6629400" y="2971800"/>
            <a:chExt cx="380880" cy="749160"/>
          </a:xfrm>
        </p:grpSpPr>
        <p:sp>
          <p:nvSpPr>
            <p:cNvPr id="101" name="Oval 60"/>
            <p:cNvSpPr/>
            <p:nvPr/>
          </p:nvSpPr>
          <p:spPr>
            <a:xfrm>
              <a:off x="6629400" y="3200400"/>
              <a:ext cx="304560" cy="152280"/>
            </a:xfrm>
            <a:prstGeom prst="ellipse">
              <a:avLst/>
            </a:prstGeom>
            <a:solidFill>
              <a:srgbClr val="4f81b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Line 61"/>
            <p:cNvSpPr/>
            <p:nvPr/>
          </p:nvSpPr>
          <p:spPr>
            <a:xfrm>
              <a:off x="6781680" y="2971800"/>
              <a:ext cx="0" cy="15228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Line 62"/>
            <p:cNvSpPr/>
            <p:nvPr/>
          </p:nvSpPr>
          <p:spPr>
            <a:xfrm>
              <a:off x="6705360" y="3048120"/>
              <a:ext cx="15192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" name="Text Box 63"/>
            <p:cNvSpPr/>
            <p:nvPr/>
          </p:nvSpPr>
          <p:spPr>
            <a:xfrm>
              <a:off x="6629400" y="3352680"/>
              <a:ext cx="38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05" name="Group 65"/>
          <p:cNvGrpSpPr/>
          <p:nvPr/>
        </p:nvGrpSpPr>
        <p:grpSpPr>
          <a:xfrm>
            <a:off x="6629400" y="3886200"/>
            <a:ext cx="304920" cy="380880"/>
            <a:chOff x="6629400" y="3886200"/>
            <a:chExt cx="304920" cy="380880"/>
          </a:xfrm>
        </p:grpSpPr>
        <p:sp>
          <p:nvSpPr>
            <p:cNvPr id="106" name="Oval 66"/>
            <p:cNvSpPr/>
            <p:nvPr/>
          </p:nvSpPr>
          <p:spPr>
            <a:xfrm>
              <a:off x="6629400" y="3962160"/>
              <a:ext cx="228600" cy="304920"/>
            </a:xfrm>
            <a:prstGeom prst="ellipse">
              <a:avLst/>
            </a:prstGeom>
            <a:solidFill>
              <a:srgbClr val="4f81b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" name="Line 67"/>
            <p:cNvSpPr/>
            <p:nvPr/>
          </p:nvSpPr>
          <p:spPr>
            <a:xfrm>
              <a:off x="6782040" y="3886200"/>
              <a:ext cx="152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8" name="Rectangle 68"/>
          <p:cNvSpPr/>
          <p:nvPr/>
        </p:nvSpPr>
        <p:spPr>
          <a:xfrm>
            <a:off x="6479640" y="4267080"/>
            <a:ext cx="53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O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Oval 69"/>
          <p:cNvSpPr/>
          <p:nvPr/>
        </p:nvSpPr>
        <p:spPr>
          <a:xfrm>
            <a:off x="4800600" y="3200400"/>
            <a:ext cx="228600" cy="152280"/>
          </a:xfrm>
          <a:prstGeom prst="ellipse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Rectangle 70"/>
          <p:cNvSpPr/>
          <p:nvPr/>
        </p:nvSpPr>
        <p:spPr>
          <a:xfrm>
            <a:off x="4710240" y="342900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71"/>
          <p:cNvSpPr/>
          <p:nvPr/>
        </p:nvSpPr>
        <p:spPr>
          <a:xfrm>
            <a:off x="4724280" y="28954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Line 72"/>
          <p:cNvSpPr/>
          <p:nvPr/>
        </p:nvSpPr>
        <p:spPr>
          <a:xfrm flipH="1">
            <a:off x="4190760" y="3276720"/>
            <a:ext cx="5331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Line 73"/>
          <p:cNvSpPr/>
          <p:nvPr/>
        </p:nvSpPr>
        <p:spPr>
          <a:xfrm>
            <a:off x="5867280" y="3352680"/>
            <a:ext cx="6858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Oval 75"/>
          <p:cNvSpPr/>
          <p:nvPr/>
        </p:nvSpPr>
        <p:spPr>
          <a:xfrm>
            <a:off x="7772400" y="3429000"/>
            <a:ext cx="380880" cy="304920"/>
          </a:xfrm>
          <a:prstGeom prst="ellipse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Oval 76"/>
          <p:cNvSpPr/>
          <p:nvPr/>
        </p:nvSpPr>
        <p:spPr>
          <a:xfrm>
            <a:off x="7848720" y="3276720"/>
            <a:ext cx="228600" cy="152280"/>
          </a:xfrm>
          <a:prstGeom prst="ellipse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6" name="Group 95"/>
          <p:cNvGrpSpPr/>
          <p:nvPr/>
        </p:nvGrpSpPr>
        <p:grpSpPr>
          <a:xfrm>
            <a:off x="2745720" y="2895480"/>
            <a:ext cx="1075320" cy="1815840"/>
            <a:chOff x="2745720" y="2895480"/>
            <a:chExt cx="1075320" cy="1815840"/>
          </a:xfrm>
        </p:grpSpPr>
        <p:sp>
          <p:nvSpPr>
            <p:cNvPr id="117" name="Oval 6"/>
            <p:cNvSpPr/>
            <p:nvPr/>
          </p:nvSpPr>
          <p:spPr>
            <a:xfrm>
              <a:off x="3429000" y="3200400"/>
              <a:ext cx="228600" cy="152280"/>
            </a:xfrm>
            <a:prstGeom prst="ellipse">
              <a:avLst/>
            </a:prstGeom>
            <a:solidFill>
              <a:srgbClr val="4f81b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8" name="Group 58"/>
            <p:cNvGrpSpPr/>
            <p:nvPr/>
          </p:nvGrpSpPr>
          <p:grpSpPr>
            <a:xfrm>
              <a:off x="2819520" y="3962160"/>
              <a:ext cx="380880" cy="749160"/>
              <a:chOff x="2819520" y="3962160"/>
              <a:chExt cx="380880" cy="749160"/>
            </a:xfrm>
          </p:grpSpPr>
          <p:sp>
            <p:nvSpPr>
              <p:cNvPr id="119" name="Oval 7"/>
              <p:cNvSpPr/>
              <p:nvPr/>
            </p:nvSpPr>
            <p:spPr>
              <a:xfrm>
                <a:off x="2819520" y="4190760"/>
                <a:ext cx="304560" cy="152280"/>
              </a:xfrm>
              <a:prstGeom prst="ellipse">
                <a:avLst/>
              </a:prstGeom>
              <a:solidFill>
                <a:srgbClr val="4f81bd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Line 31"/>
              <p:cNvSpPr/>
              <p:nvPr/>
            </p:nvSpPr>
            <p:spPr>
              <a:xfrm>
                <a:off x="2971800" y="3962160"/>
                <a:ext cx="0" cy="15228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Line 32"/>
              <p:cNvSpPr/>
              <p:nvPr/>
            </p:nvSpPr>
            <p:spPr>
              <a:xfrm>
                <a:off x="2895480" y="4038480"/>
                <a:ext cx="15192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Text Box 43"/>
              <p:cNvSpPr/>
              <p:nvPr/>
            </p:nvSpPr>
            <p:spPr>
              <a:xfrm>
                <a:off x="2819520" y="4343040"/>
                <a:ext cx="380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Garamond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3" name="Rectangle 77"/>
            <p:cNvSpPr/>
            <p:nvPr/>
          </p:nvSpPr>
          <p:spPr>
            <a:xfrm>
              <a:off x="3338640" y="327636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Na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Rectangle 78"/>
            <p:cNvSpPr/>
            <p:nvPr/>
          </p:nvSpPr>
          <p:spPr>
            <a:xfrm>
              <a:off x="3366360" y="289548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5" name="Group 79"/>
            <p:cNvGrpSpPr/>
            <p:nvPr/>
          </p:nvGrpSpPr>
          <p:grpSpPr>
            <a:xfrm>
              <a:off x="2819520" y="3124080"/>
              <a:ext cx="304200" cy="380880"/>
              <a:chOff x="2819520" y="3124080"/>
              <a:chExt cx="304200" cy="380880"/>
            </a:xfrm>
          </p:grpSpPr>
          <p:sp>
            <p:nvSpPr>
              <p:cNvPr id="126" name="Oval 80"/>
              <p:cNvSpPr/>
              <p:nvPr/>
            </p:nvSpPr>
            <p:spPr>
              <a:xfrm>
                <a:off x="2819520" y="3200040"/>
                <a:ext cx="228240" cy="304920"/>
              </a:xfrm>
              <a:prstGeom prst="ellipse">
                <a:avLst/>
              </a:prstGeom>
              <a:solidFill>
                <a:srgbClr val="4f81bd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Line 81"/>
              <p:cNvSpPr/>
              <p:nvPr/>
            </p:nvSpPr>
            <p:spPr>
              <a:xfrm>
                <a:off x="2971800" y="3124080"/>
                <a:ext cx="151920" cy="0"/>
              </a:xfrm>
              <a:prstGeom prst="line">
                <a:avLst/>
              </a:prstGeom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8" name="Rectangle 82"/>
            <p:cNvSpPr/>
            <p:nvPr/>
          </p:nvSpPr>
          <p:spPr>
            <a:xfrm>
              <a:off x="2745720" y="3429000"/>
              <a:ext cx="53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aramond"/>
                </a:rPr>
                <a:t>OH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9" name="Group 83"/>
          <p:cNvGrpSpPr/>
          <p:nvPr/>
        </p:nvGrpSpPr>
        <p:grpSpPr>
          <a:xfrm>
            <a:off x="1523880" y="3352680"/>
            <a:ext cx="304920" cy="380880"/>
            <a:chOff x="1523880" y="3352680"/>
            <a:chExt cx="304920" cy="380880"/>
          </a:xfrm>
        </p:grpSpPr>
        <p:sp>
          <p:nvSpPr>
            <p:cNvPr id="130" name="Oval 84"/>
            <p:cNvSpPr/>
            <p:nvPr/>
          </p:nvSpPr>
          <p:spPr>
            <a:xfrm>
              <a:off x="1523880" y="3428640"/>
              <a:ext cx="228600" cy="304920"/>
            </a:xfrm>
            <a:prstGeom prst="ellipse">
              <a:avLst/>
            </a:prstGeom>
            <a:solidFill>
              <a:srgbClr val="4f81b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Line 85"/>
            <p:cNvSpPr/>
            <p:nvPr/>
          </p:nvSpPr>
          <p:spPr>
            <a:xfrm>
              <a:off x="1676520" y="3352680"/>
              <a:ext cx="152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2" name="Oval 86"/>
          <p:cNvSpPr/>
          <p:nvPr/>
        </p:nvSpPr>
        <p:spPr>
          <a:xfrm>
            <a:off x="1676520" y="3352680"/>
            <a:ext cx="228600" cy="152640"/>
          </a:xfrm>
          <a:prstGeom prst="ellipse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87"/>
          <p:cNvSpPr/>
          <p:nvPr/>
        </p:nvSpPr>
        <p:spPr>
          <a:xfrm>
            <a:off x="4800600" y="2514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aC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88"/>
          <p:cNvSpPr/>
          <p:nvPr/>
        </p:nvSpPr>
        <p:spPr>
          <a:xfrm>
            <a:off x="2590920" y="4876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2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Oval 89"/>
          <p:cNvSpPr/>
          <p:nvPr/>
        </p:nvSpPr>
        <p:spPr>
          <a:xfrm>
            <a:off x="7772400" y="4419720"/>
            <a:ext cx="380880" cy="304560"/>
          </a:xfrm>
          <a:prstGeom prst="ellipse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Oval 90"/>
          <p:cNvSpPr/>
          <p:nvPr/>
        </p:nvSpPr>
        <p:spPr>
          <a:xfrm>
            <a:off x="7848720" y="4267080"/>
            <a:ext cx="228600" cy="152640"/>
          </a:xfrm>
          <a:prstGeom prst="ellipse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7" name="Group 91"/>
          <p:cNvGrpSpPr/>
          <p:nvPr/>
        </p:nvGrpSpPr>
        <p:grpSpPr>
          <a:xfrm>
            <a:off x="1523880" y="4495680"/>
            <a:ext cx="304920" cy="380880"/>
            <a:chOff x="1523880" y="4495680"/>
            <a:chExt cx="304920" cy="380880"/>
          </a:xfrm>
        </p:grpSpPr>
        <p:sp>
          <p:nvSpPr>
            <p:cNvPr id="138" name="Oval 92"/>
            <p:cNvSpPr/>
            <p:nvPr/>
          </p:nvSpPr>
          <p:spPr>
            <a:xfrm>
              <a:off x="1523880" y="4571640"/>
              <a:ext cx="228600" cy="304920"/>
            </a:xfrm>
            <a:prstGeom prst="ellipse">
              <a:avLst/>
            </a:prstGeom>
            <a:solidFill>
              <a:srgbClr val="4f81bd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93"/>
            <p:cNvSpPr/>
            <p:nvPr/>
          </p:nvSpPr>
          <p:spPr>
            <a:xfrm>
              <a:off x="1676520" y="4495680"/>
              <a:ext cx="1522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0" name="Oval 94"/>
          <p:cNvSpPr/>
          <p:nvPr/>
        </p:nvSpPr>
        <p:spPr>
          <a:xfrm>
            <a:off x="1600200" y="4419720"/>
            <a:ext cx="228600" cy="152280"/>
          </a:xfrm>
          <a:prstGeom prst="ellipse">
            <a:avLst/>
          </a:prstGeom>
          <a:solidFill>
            <a:srgbClr val="4f81b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96"/>
          <p:cNvSpPr/>
          <p:nvPr/>
        </p:nvSpPr>
        <p:spPr>
          <a:xfrm>
            <a:off x="6248520" y="49528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2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97"/>
          <p:cNvSpPr/>
          <p:nvPr/>
        </p:nvSpPr>
        <p:spPr>
          <a:xfrm>
            <a:off x="7696080" y="2133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ANO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98"/>
          <p:cNvSpPr/>
          <p:nvPr/>
        </p:nvSpPr>
        <p:spPr>
          <a:xfrm>
            <a:off x="914400" y="213372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KATOD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99"/>
          <p:cNvSpPr/>
          <p:nvPr/>
        </p:nvSpPr>
        <p:spPr>
          <a:xfrm flipH="1">
            <a:off x="609120" y="3962520"/>
            <a:ext cx="7621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Line 100"/>
          <p:cNvSpPr/>
          <p:nvPr/>
        </p:nvSpPr>
        <p:spPr>
          <a:xfrm>
            <a:off x="609480" y="3962520"/>
            <a:ext cx="0" cy="2209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Line 101"/>
          <p:cNvSpPr/>
          <p:nvPr/>
        </p:nvSpPr>
        <p:spPr>
          <a:xfrm>
            <a:off x="609480" y="6172200"/>
            <a:ext cx="34290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Line 102"/>
          <p:cNvSpPr/>
          <p:nvPr/>
        </p:nvSpPr>
        <p:spPr>
          <a:xfrm>
            <a:off x="4724280" y="6172200"/>
            <a:ext cx="41148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Line 103"/>
          <p:cNvSpPr/>
          <p:nvPr/>
        </p:nvSpPr>
        <p:spPr>
          <a:xfrm flipV="1">
            <a:off x="8839080" y="3886200"/>
            <a:ext cx="0" cy="2286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Line 104"/>
          <p:cNvSpPr/>
          <p:nvPr/>
        </p:nvSpPr>
        <p:spPr>
          <a:xfrm flipH="1">
            <a:off x="8305560" y="3886200"/>
            <a:ext cx="5331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Line 105"/>
          <p:cNvSpPr/>
          <p:nvPr/>
        </p:nvSpPr>
        <p:spPr>
          <a:xfrm>
            <a:off x="4038480" y="5867280"/>
            <a:ext cx="0" cy="60984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Line 106"/>
          <p:cNvSpPr/>
          <p:nvPr/>
        </p:nvSpPr>
        <p:spPr>
          <a:xfrm>
            <a:off x="4724280" y="6019920"/>
            <a:ext cx="0" cy="30456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Rectangle 107"/>
          <p:cNvSpPr/>
          <p:nvPr/>
        </p:nvSpPr>
        <p:spPr>
          <a:xfrm>
            <a:off x="530280" y="5462640"/>
            <a:ext cx="29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Kolikvacion</a:t>
            </a:r>
            <a:r>
              <a:rPr b="1" lang="sr-CS" sz="2000" spc="-1" strike="noStrike">
                <a:solidFill>
                  <a:srgbClr val="000000"/>
                </a:solidFill>
                <a:latin typeface="Garamond"/>
              </a:rPr>
              <a:t>а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nekroz</a:t>
            </a:r>
            <a:r>
              <a:rPr b="1" lang="sr-CS" sz="2000" spc="-1" strike="noStrike">
                <a:solidFill>
                  <a:srgbClr val="000000"/>
                </a:solidFill>
                <a:latin typeface="Garamond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Rectangle 108"/>
          <p:cNvSpPr/>
          <p:nvPr/>
        </p:nvSpPr>
        <p:spPr>
          <a:xfrm>
            <a:off x="6477120" y="55627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Garamond"/>
              </a:rPr>
              <a:t>К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oagulaciona nekroz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Rectangle 109"/>
          <p:cNvSpPr/>
          <p:nvPr/>
        </p:nvSpPr>
        <p:spPr>
          <a:xfrm>
            <a:off x="334080" y="6324480"/>
            <a:ext cx="31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Garamond"/>
              </a:rPr>
              <a:t>2Na + 2HOH = 2NaOH + H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Rectangle 110"/>
          <p:cNvSpPr/>
          <p:nvPr/>
        </p:nvSpPr>
        <p:spPr>
          <a:xfrm>
            <a:off x="4648320" y="6324480"/>
            <a:ext cx="4495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Garamond"/>
              </a:rPr>
              <a:t>4Cl + 2HOH = 4HCl + 0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римарно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деловањ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лова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4495680" cy="5867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 fontScale="98000"/>
          </a:bodyPr>
          <a:p>
            <a:pPr marL="447840" indent="-44784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Calibri"/>
              </a:rPr>
              <a:t>Ан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исел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ред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налгез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нтиедематозн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лова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агулацио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кро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мању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ермеабилно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мањуј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смостск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тиса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нафорез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ушењ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кив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мирујућ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лова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8320" y="990720"/>
            <a:ext cx="4495680" cy="5867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558e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558ed5"/>
                </a:solidFill>
                <a:latin typeface="Calibri"/>
              </a:rPr>
              <a:t>Кат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аз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ред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већањ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сетљивост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о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купљањ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од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ликвацио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кро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већав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ермеабилно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већав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смостск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тиса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купљањ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од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дражајн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ловањ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екундарно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деловањ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галванск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тру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ону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азомот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ону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ишић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одулаци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о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офи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таболиз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ВА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СЕКУНДАРНО</a:t>
            </a:r>
            <a:r>
              <a:rPr b="0" lang="en-AU" sz="4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ФИЗИОЛОШКО</a:t>
            </a:r>
            <a:r>
              <a:rPr b="0" lang="en-AU" sz="40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ДЕЛОВАЊ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Условљен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деловањем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ff"/>
                </a:solidFill>
                <a:latin typeface="Verdana"/>
              </a:rPr>
              <a:t>нервне</a:t>
            </a:r>
            <a:r>
              <a:rPr b="1" lang="en-AU" sz="2400" spc="-1" strike="noStrike">
                <a:solidFill>
                  <a:srgbClr val="6600ff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6600ff"/>
                </a:solidFill>
                <a:latin typeface="Verdana"/>
              </a:rPr>
              <a:t>завршетке</a:t>
            </a:r>
            <a:r>
              <a:rPr b="1" lang="en-AU" sz="2400" spc="-1" strike="noStrike">
                <a:solidFill>
                  <a:srgbClr val="6600ff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6600ff"/>
                </a:solidFill>
                <a:latin typeface="Verdana"/>
              </a:rPr>
              <a:t>и</a:t>
            </a:r>
            <a:r>
              <a:rPr b="1" lang="en-AU" sz="2400" spc="-1" strike="noStrike">
                <a:solidFill>
                  <a:srgbClr val="6600ff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6600ff"/>
                </a:solidFill>
                <a:latin typeface="Verdana"/>
              </a:rPr>
              <a:t>рецепто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вазомотори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вазодилатациј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кожи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мишићим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моторни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нерви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тонус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мишић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анелектротонус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кателектротонус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сензитивни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нерви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побољшав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аферентацију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екстеро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проприцепт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сензибилите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рецептори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бол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–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модулациј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бол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аналгезиј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 u="sng">
                <a:solidFill>
                  <a:srgbClr val="000000"/>
                </a:solidFill>
                <a:uFillTx/>
                <a:latin typeface="Verdana"/>
              </a:rPr>
              <a:t>испод</a:t>
            </a:r>
            <a:r>
              <a:rPr b="0" lang="en-AU" sz="22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sr-CS" sz="2200" spc="-1" strike="noStrike" u="sng">
                <a:solidFill>
                  <a:srgbClr val="000000"/>
                </a:solidFill>
                <a:uFillTx/>
                <a:latin typeface="Verdana"/>
              </a:rPr>
              <a:t>аноде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00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6600ff"/>
                </a:solidFill>
                <a:latin typeface="Verdana"/>
              </a:rPr>
              <a:t>на</a:t>
            </a:r>
            <a:r>
              <a:rPr b="1" lang="en-AU" sz="2400" spc="-1" strike="noStrike">
                <a:solidFill>
                  <a:srgbClr val="6600ff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6600ff"/>
                </a:solidFill>
                <a:latin typeface="Verdana"/>
              </a:rPr>
              <a:t>ћелије</a:t>
            </a:r>
            <a:r>
              <a:rPr b="1" lang="en-AU" sz="2400" spc="-1" strike="noStrike">
                <a:solidFill>
                  <a:srgbClr val="6600ff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6600ff"/>
                </a:solidFill>
                <a:latin typeface="Verdana"/>
              </a:rPr>
              <a:t>и</a:t>
            </a:r>
            <a:r>
              <a:rPr b="1" lang="en-AU" sz="2400" spc="-1" strike="noStrike">
                <a:solidFill>
                  <a:srgbClr val="6600ff"/>
                </a:solidFill>
                <a:latin typeface="Verdana"/>
              </a:rPr>
              <a:t> </a:t>
            </a:r>
            <a:r>
              <a:rPr b="1" lang="sr-CS" sz="2400" spc="-1" strike="noStrike">
                <a:solidFill>
                  <a:srgbClr val="6600ff"/>
                </a:solidFill>
                <a:latin typeface="Verdana"/>
              </a:rPr>
              <a:t>тки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повећав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пропустљивост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ћел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мембра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активност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ћел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ензим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метаболиза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позитивно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ТРОФИЧКО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деловањ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поуспешује процес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РЕГЕНЕРАЦИЈЕ</a:t>
            </a:r>
            <a:r>
              <a:rPr b="0" lang="en-AU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3760" y="274320"/>
            <a:ext cx="859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ТЕРАПИЈСКА</a:t>
            </a:r>
            <a:r>
              <a:rPr b="0" lang="en-AU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ПРИМЕ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28240" y="15235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овећањ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артеријск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венск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циркулациј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а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обољшањем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рокрвљености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кож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мишића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других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ткива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кроз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кој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ротич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гс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Ресорпција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екстравазата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елиминацицја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метаболита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мањењ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бола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мањењ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надражљивости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ензитивних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нерава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овећањ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надражљивости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моторних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нерава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ојачањ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биолошк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активности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ћелија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обољшањ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трофик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ткива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обољшањ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роцеса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репарациј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регенерације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Доказивањ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то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звијањ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ас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то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ме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pH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ред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то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слобађањ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Доказивањ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л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акле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аш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блик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лов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пуњен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изиолошки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аствор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вак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ра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аш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ип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колик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ап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фенолфталеина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едн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ран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ав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нод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руг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ато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кључ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нтакт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гативни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л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енолфталеи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казу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црвен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ој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мест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енофталаин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ож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рист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лакмус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апир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ј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дел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нод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ој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црвен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едел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атод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лав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Електротерап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Облас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физикалн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терапиј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која корист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електричну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енергиј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електрохемијска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дра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делује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на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нервне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рецепторе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нерв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ћелије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ткива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кроз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које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пролази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Електрод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Bergoni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ев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лумас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w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rchik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в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лектрод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Scherb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в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ковратни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Werm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угмас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ампо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2819520" y="3505320"/>
            <a:ext cx="60958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етодика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римен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директн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пилац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 pl Kieselbach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положај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електр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онгитудинал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рансферзал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величина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електр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онополар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иполар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смер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стру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сцедент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сцедент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94640" cy="112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Апликација</a:t>
            </a:r>
            <a:r>
              <a:rPr b="0" lang="sr-Latn-C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галванске</a:t>
            </a:r>
            <a:r>
              <a:rPr b="0" lang="sr-Latn-C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струј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 u="sng">
                <a:solidFill>
                  <a:srgbClr val="000000"/>
                </a:solidFill>
                <a:uFillTx/>
                <a:latin typeface="Verdana"/>
              </a:rPr>
              <a:t>лонгитудинална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Verdana"/>
              </a:rPr>
              <a:t>галванизациј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електрод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постављен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крајевим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третираног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дел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односн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дуж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екстремитет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6" descr="HPIM0226"/>
          <p:cNvPicPr/>
          <p:nvPr/>
        </p:nvPicPr>
        <p:blipFill>
          <a:blip r:embed="rId1"/>
          <a:stretch/>
        </p:blipFill>
        <p:spPr>
          <a:xfrm>
            <a:off x="4267080" y="2286000"/>
            <a:ext cx="469584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Трансверзална</a:t>
            </a:r>
            <a:br>
              <a:rPr sz="4000"/>
            </a:b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апликација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С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2362320" y="1905120"/>
            <a:ext cx="5715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Дозирање</a:t>
            </a:r>
            <a:r>
              <a:rPr b="0" lang="sr-Latn-C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галванске</a:t>
            </a:r>
            <a:r>
              <a:rPr b="0" lang="sr-Latn-C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струј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6840" y="17524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Јачина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струје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 (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Површина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електрода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цм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Густина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струје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цм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4.Трајање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процедуре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(10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до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0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мин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Број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процедура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једној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сериј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ерија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= 10 - 15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роцеду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4000" y="274320"/>
            <a:ext cx="8632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Индикације</a:t>
            </a:r>
            <a:r>
              <a:rPr b="0" lang="sr-Latn-CS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за С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-152640" y="761760"/>
            <a:ext cx="9296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Verdana"/>
              </a:rPr>
              <a:t>Неуролошке: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обољења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повреде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периферних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нера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неуралгије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неуропатије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компресивне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радикулопат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плексопат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- мијалг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- атрофије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парализе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мишић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Verdana"/>
              </a:rPr>
              <a:t>Посттрауматска</a:t>
            </a:r>
            <a:r>
              <a:rPr b="0" lang="en-AU" sz="2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Verdana"/>
              </a:rPr>
              <a:t>стања</a:t>
            </a:r>
            <a:r>
              <a:rPr b="0" lang="en-AU" sz="2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где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је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кожа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интакт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Verdana"/>
              </a:rPr>
              <a:t>Реуматска</a:t>
            </a:r>
            <a:r>
              <a:rPr b="0" lang="en-AU" sz="2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Verdana"/>
              </a:rPr>
              <a:t>обољења</a:t>
            </a:r>
            <a:r>
              <a:rPr b="0" lang="en-AU" sz="2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Запаљењски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реуматизам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у хроничној фази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Дегенеративни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реуматиз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Ванзглобни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реуматиза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Оклузивна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Verdana"/>
              </a:rPr>
              <a:t>васкуларна</a:t>
            </a:r>
            <a:r>
              <a:rPr b="0" lang="en-AU" sz="2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Verdana"/>
              </a:rPr>
              <a:t>обољења</a:t>
            </a:r>
            <a:r>
              <a:rPr b="0" lang="en-AU" sz="20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екстрем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фазама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I-II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по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Фонт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ну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darteritis obl,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атеросклероз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дијабетичн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васкулопатије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aunaud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ове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болести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Промрзлине и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друге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озледе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крвних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судов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код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трофичких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промена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едем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en-A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Verdana"/>
              </a:rPr>
              <a:t>електродијагностиц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Контраиндикације за СГ</a:t>
            </a:r>
            <a:r>
              <a:rPr b="0" lang="en-AU" sz="4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крварењ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сколоност ка крварењу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фебрилн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стањ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инфективна обољењ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локалне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акутне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упале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зглобов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плућа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.)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декомпазације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срца,плућа,бубрега,јетре..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ТБ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0000"/>
                </a:solidFill>
                <a:latin typeface="Verdana"/>
              </a:rPr>
              <a:t>присусутва</a:t>
            </a:r>
            <a:r>
              <a:rPr b="0" lang="en-A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ff0000"/>
                </a:solidFill>
                <a:latin typeface="Verdana"/>
              </a:rPr>
              <a:t>метала</a:t>
            </a:r>
            <a:r>
              <a:rPr b="0" lang="en-A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ff0000"/>
                </a:solidFill>
                <a:latin typeface="Verdana"/>
              </a:rPr>
              <a:t>на</a:t>
            </a:r>
            <a:r>
              <a:rPr b="0" lang="en-A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ff0000"/>
                </a:solidFill>
                <a:latin typeface="Verdana"/>
              </a:rPr>
              <a:t>месту</a:t>
            </a:r>
            <a:r>
              <a:rPr b="0" lang="en-A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ff0000"/>
                </a:solidFill>
                <a:latin typeface="Verdana"/>
              </a:rPr>
              <a:t>апликације</a:t>
            </a:r>
            <a:r>
              <a:rPr b="0" lang="en-AU" sz="2200" spc="-1" strike="noStrike">
                <a:solidFill>
                  <a:srgbClr val="ff0000"/>
                </a:solidFill>
                <a:latin typeface="Verdana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0000"/>
                </a:solidFill>
                <a:latin typeface="Verdana"/>
              </a:rPr>
              <a:t>оштећења</a:t>
            </a:r>
            <a:r>
              <a:rPr b="0" lang="en-A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ff0000"/>
                </a:solidFill>
                <a:latin typeface="Verdana"/>
              </a:rPr>
              <a:t>коже</a:t>
            </a:r>
            <a:r>
              <a:rPr b="0" lang="en-A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ff0000"/>
                </a:solidFill>
                <a:latin typeface="Verdana"/>
              </a:rPr>
              <a:t>на</a:t>
            </a:r>
            <a:r>
              <a:rPr b="0" lang="en-A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ff0000"/>
                </a:solidFill>
                <a:latin typeface="Verdana"/>
              </a:rPr>
              <a:t>месту</a:t>
            </a:r>
            <a:r>
              <a:rPr b="0" lang="en-A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ff0000"/>
                </a:solidFill>
                <a:latin typeface="Verdana"/>
              </a:rPr>
              <a:t>где</a:t>
            </a:r>
            <a:r>
              <a:rPr b="0" lang="en-A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ff0000"/>
                </a:solidFill>
                <a:latin typeface="Verdana"/>
              </a:rPr>
              <a:t>треба</a:t>
            </a:r>
            <a:r>
              <a:rPr b="0" lang="en-A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ff0000"/>
                </a:solidFill>
                <a:latin typeface="Verdana"/>
              </a:rPr>
              <a:t>да</a:t>
            </a:r>
            <a:r>
              <a:rPr b="0" lang="en-A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ff0000"/>
                </a:solidFill>
                <a:latin typeface="Verdana"/>
              </a:rPr>
              <a:t>се</a:t>
            </a:r>
            <a:r>
              <a:rPr b="0" lang="en-A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ff0000"/>
                </a:solidFill>
                <a:latin typeface="Verdana"/>
              </a:rPr>
              <a:t>апликују</a:t>
            </a:r>
            <a:r>
              <a:rPr b="0" lang="en-AU" sz="2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ff0000"/>
                </a:solidFill>
                <a:latin typeface="Verdana"/>
              </a:rPr>
              <a:t>електрод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малигни</a:t>
            </a:r>
            <a:r>
              <a:rPr b="0" lang="en-AU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Verdana"/>
              </a:rPr>
              <a:t>тумор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Специјални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облици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примен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0" y="213372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295280" indent="-38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Негативн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електролиза 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дерматологија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Јонофореза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стоматологија</a:t>
            </a:r>
            <a:r>
              <a:rPr b="0" lang="sr-Latn-C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Хидрогалванск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куп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295280" indent="-3808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Verdana"/>
              </a:rPr>
              <a:t>Електрофореза</a:t>
            </a:r>
            <a:r>
              <a:rPr b="0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Verdana"/>
              </a:rPr>
              <a:t>лек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1.Негативн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електролиз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дразумев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контролисану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деструкцију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ткива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аустични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фект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гативно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л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рист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сразмер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змеђ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лектрод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Негативн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латинск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гл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вод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фоликул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лак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зметичк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врх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друч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жни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зрасли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умор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Инактив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лектро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но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еличин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ла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ећ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пилаци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рист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нтензите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1-2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рајањ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2-3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ц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умор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ж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5-20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рајањ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30-60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ц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ступа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ола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ндикаци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hipertrichossi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verucc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елоидн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жиља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2.Јонофорез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тупа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лектролиз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гативни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л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ерилизаци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нал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ре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уб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кив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чност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рећ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руги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киви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водећ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фекат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лов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о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ржава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тимал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p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ериапикални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киви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ма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Calibri"/>
              </a:rPr>
              <a:t>антизапаљенски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Calibri"/>
              </a:rPr>
              <a:t>ефекат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Calibri"/>
              </a:rPr>
              <a:t>бактерицидн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фека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стовремен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ерилизацијо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нал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змекшав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нтинск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кив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ај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чи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Calibri"/>
              </a:rPr>
              <a:t>олакшава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Calibri"/>
              </a:rPr>
              <a:t>ширење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Calibri"/>
              </a:rPr>
              <a:t>канал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rpedo california i marmor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3.Хидрогалванск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хидроелектричн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куп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440" y="1904760"/>
            <a:ext cx="7620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алванизациј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кив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вод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себни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да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ластич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спуњени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одом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чији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идовим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грађе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рафит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лектрод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д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мење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окал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шт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идроелектрич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упк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Галванск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кад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3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4190760" cy="4419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495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Галванске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ка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3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3809880" cy="56386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28840" y="19810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етвороћелијск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упк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Хидрогалванск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а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Локална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хидроелектрична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куп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22860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мењу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едној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иш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а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ћел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л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јчешћ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шак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длака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опал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тколениц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урања се у воду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сто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једноћелијск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еда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кстремите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двоћелијске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в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кстремитет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четвороћелијске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купк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стовремен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алванизациј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в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етир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кстремитет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адиц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ли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бич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о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=36-37º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олесни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ав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ук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авијен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актовим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њ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рећин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длактиц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ог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редин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тколениц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ти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кључ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ру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ир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ларите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лектр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Општа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хидроелектрична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купк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хидрогаванск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када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6840" y="15998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звод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еликој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ад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алванск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а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чији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идовим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ичвршћен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од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роњен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еколик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елики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лектрода.Служ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алванизациј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цело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ел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лав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ад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олесни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заузим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луседећ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ложај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днос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ларите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лектро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стој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огућност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ројних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мбинациј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ачи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тру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знос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300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500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,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рајањ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оцедур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15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0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и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колик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стој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ефект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ож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н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реб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намаж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вазелин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Електрофореза лек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2282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Транскутано уношење лекова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преко интактне коже, у организам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помоћу галванске струј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52480" indent="-380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ако је растворљив у води 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52480" indent="-380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ако се лек у воденом раствору налази дисоциран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ktroforeza leko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7" name="Object 10"/>
          <p:cNvGraphicFramePr/>
          <p:nvPr/>
        </p:nvGraphicFramePr>
        <p:xfrm>
          <a:off x="1295280" y="609480"/>
          <a:ext cx="7543800" cy="66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8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609480"/>
                    <a:ext cx="754380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Електрофореза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леко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85440" y="17524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 u="sng">
                <a:solidFill>
                  <a:srgbClr val="000000"/>
                </a:solidFill>
                <a:uFillTx/>
                <a:latin typeface="Verdana"/>
              </a:rPr>
              <a:t>Дужина третман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израчунава с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м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мин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конкретн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ле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читамо из табеле и делимо са бројем м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који представљају субјективни праг надражљивости за болесн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Chatzky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ев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оглед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Hitorff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гле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олаз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о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роз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лину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Chatzk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в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гле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ролаз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о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роз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свеж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ромпир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Labatut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гле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роз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мртв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ткиво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животињског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порекл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ncho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Leduck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ретање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јон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кроз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животињск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организа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5" descr=""/>
          <p:cNvPicPr/>
          <p:nvPr/>
        </p:nvPicPr>
        <p:blipFill>
          <a:blip r:embed="rId1"/>
          <a:stretch/>
        </p:blipFill>
        <p:spPr>
          <a:xfrm>
            <a:off x="4495680" y="2438280"/>
            <a:ext cx="43434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Leduck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o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гле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казу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јств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ек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ењ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лаз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роз жив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рганиза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еловање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алванск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ру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а је битан полатит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6" descr=""/>
          <p:cNvPicPr/>
          <p:nvPr/>
        </p:nvPicPr>
        <p:blipFill>
          <a:blip r:embed="rId1"/>
          <a:stretch/>
        </p:blipFill>
        <p:spPr>
          <a:xfrm>
            <a:off x="4648320" y="1981080"/>
            <a:ext cx="44956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Историјат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електротерап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римск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лекар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Scribonius Largus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им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чио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главобољ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болов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леђима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додиром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рибе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Torpedo Marmor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Verdana"/>
              </a:rPr>
              <a:t>врста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Verdana"/>
              </a:rPr>
              <a:t>жаб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Pedanios dioscorid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Verdana"/>
              </a:rPr>
              <a:t>додир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Verdana"/>
              </a:rPr>
              <a:t>риб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Torpedo Marmorat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Најчешће</a:t>
            </a:r>
            <a:r>
              <a:rPr b="0" lang="sr-Latn-C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коришћени</a:t>
            </a:r>
            <a:r>
              <a:rPr b="0" lang="sr-Latn-C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лекови</a:t>
            </a:r>
            <a:r>
              <a:rPr b="0" lang="sr-Latn-C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752120" y="1980720"/>
            <a:ext cx="6324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Verdana"/>
              </a:rPr>
              <a:t>Са</a:t>
            </a:r>
            <a:r>
              <a:rPr b="1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Verdana"/>
              </a:rPr>
              <a:t>аноде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се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уносе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Verdana"/>
              </a:rPr>
              <a:t>Новока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Verdana"/>
              </a:rPr>
              <a:t>Хистамин</a:t>
            </a:r>
            <a:r>
              <a:rPr b="0" lang="en-AU" sz="2800" spc="-1" strike="noStrike">
                <a:solidFill>
                  <a:srgbClr val="ff0000"/>
                </a:solidFill>
                <a:latin typeface="Verdan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Verdana"/>
              </a:rPr>
              <a:t>Редергин</a:t>
            </a:r>
            <a:r>
              <a:rPr b="0" lang="en-AU" sz="2800" spc="-1" strike="noStrike">
                <a:solidFill>
                  <a:srgbClr val="ff0000"/>
                </a:solidFill>
                <a:latin typeface="Verdan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0000"/>
                </a:solidFill>
                <a:latin typeface="Verdana"/>
              </a:rPr>
              <a:t>Кортикостероиди</a:t>
            </a:r>
            <a:r>
              <a:rPr b="0" lang="en-AU" sz="2800" spc="-1" strike="noStrike">
                <a:solidFill>
                  <a:srgbClr val="ff0000"/>
                </a:solidFill>
                <a:latin typeface="Verdana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Најчешће</a:t>
            </a:r>
            <a:r>
              <a:rPr b="0" lang="sr-Latn-C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коришћени</a:t>
            </a:r>
            <a:r>
              <a:rPr b="0" lang="sr-Latn-C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леков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066320" y="1981080"/>
            <a:ext cx="769644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Verdana"/>
              </a:rPr>
              <a:t>Са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Verdana"/>
              </a:rPr>
              <a:t>катоде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b0f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b0f0"/>
                </a:solidFill>
                <a:latin typeface="Verdana"/>
              </a:rPr>
              <a:t>КЈ</a:t>
            </a:r>
            <a:r>
              <a:rPr b="1" lang="en-AU" sz="3200" spc="-1" strike="noStrike">
                <a:solidFill>
                  <a:srgbClr val="00b0f0"/>
                </a:solidFill>
                <a:latin typeface="Verdana"/>
              </a:rPr>
              <a:t> (</a:t>
            </a:r>
            <a:r>
              <a:rPr b="1" lang="sr-CS" sz="3200" spc="-1" strike="noStrike">
                <a:solidFill>
                  <a:srgbClr val="00b0f0"/>
                </a:solidFill>
                <a:latin typeface="Verdana"/>
              </a:rPr>
              <a:t>калијум</a:t>
            </a:r>
            <a:r>
              <a:rPr b="1" lang="en-AU" sz="3200" spc="-1" strike="noStrike">
                <a:solidFill>
                  <a:srgbClr val="00b0f0"/>
                </a:solidFill>
                <a:latin typeface="Verdana"/>
              </a:rPr>
              <a:t> </a:t>
            </a:r>
            <a:r>
              <a:rPr b="1" lang="sr-CS" sz="3200" spc="-1" strike="noStrike">
                <a:solidFill>
                  <a:srgbClr val="00b0f0"/>
                </a:solidFill>
                <a:latin typeface="Verdana"/>
              </a:rPr>
              <a:t>јоди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b0f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b0f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b0f0"/>
                </a:solidFill>
                <a:latin typeface="Verdana"/>
              </a:rPr>
              <a:t>Кристални</a:t>
            </a:r>
            <a:r>
              <a:rPr b="1" lang="en-AU" sz="3200" spc="-1" strike="noStrike">
                <a:solidFill>
                  <a:srgbClr val="00b0f0"/>
                </a:solidFill>
                <a:latin typeface="Verdana"/>
              </a:rPr>
              <a:t> </a:t>
            </a:r>
            <a:r>
              <a:rPr b="1" lang="sr-CS" sz="3200" spc="-1" strike="noStrike">
                <a:solidFill>
                  <a:srgbClr val="00b0f0"/>
                </a:solidFill>
                <a:latin typeface="Verdana"/>
              </a:rPr>
              <a:t>пеницилин</a:t>
            </a:r>
            <a:r>
              <a:rPr b="1" lang="en-AU" sz="3200" spc="-1" strike="noStrike">
                <a:solidFill>
                  <a:srgbClr val="00b0f0"/>
                </a:solidFill>
                <a:latin typeface="Verdana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b0f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b0f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b0f0"/>
                </a:solidFill>
                <a:latin typeface="Verdana"/>
              </a:rPr>
              <a:t>Тиомуказа</a:t>
            </a:r>
            <a:r>
              <a:rPr b="1" lang="en-AU" sz="3200" spc="-1" strike="noStrike">
                <a:solidFill>
                  <a:srgbClr val="00b0f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Предност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уношењ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леков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електрофорезом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Verdana"/>
              </a:rPr>
              <a:t>су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066320" y="18288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протрахован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дејств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ле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синергиз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локалн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деловањ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избегавањ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гастричн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интолеранци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заобилажењ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крвоток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јетр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безболн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процеду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Недостаци електрофорезе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447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уносе се само неки леков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тешкоћ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дозирању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никад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н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мож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прецизн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одредит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количин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унетог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лек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процедур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трај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релативн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дуг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потребн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апаратур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з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апликацију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галванск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струје и обучен кадар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ле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мож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уносит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сам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прек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интактн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кож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Електрични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шок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мере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игур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I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личник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 U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по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: R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тпо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тпо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ув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ж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колик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тоти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иља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м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угод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ензац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тпо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лаж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ж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1000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м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нтрикулар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ибрилаци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фатални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сходо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пекоти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хемијск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рмичк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;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нтракц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елики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ишићних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руп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ромб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;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ремећај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д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pace make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Шире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нфекци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рваре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 користити продужни кабал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омоћ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удара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струј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вади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бл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з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тичниц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вери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улс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исањ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вређен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екордијал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ударац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сто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р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рдиопулмонал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анимац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иш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блик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тпор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име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еков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дренали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идокаи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тропин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к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МБУ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ал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Историјат</a:t>
            </a:r>
            <a:r>
              <a:rPr b="0" lang="sr-Latn-C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електротерапиј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Гилбер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600.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годин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открив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електриците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Галван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789.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годин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открив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једносмерн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трују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галванск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труј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Волт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789.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конструиш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рв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вештачк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извор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галванск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труј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Енглеск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физичар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Фарадеј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1831.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годин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проналаз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наизменичн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труј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ниск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фреквенц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фарадизациј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Д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'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Арсонва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француск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биолог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1892.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годин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увод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терапиј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наизменичн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струј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висок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Verdana"/>
              </a:rPr>
              <a:t>фреквенције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1957. Bernard  D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1972. TE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Подела</a:t>
            </a:r>
            <a:r>
              <a:rPr b="0" lang="sr-Latn-CS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електротерап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Једносмерн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стру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Једносмерн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константн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стру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Једносмерн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импулсн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стру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Наизменичн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струј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Нискофреквент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Средњефреквент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Verdana"/>
              </a:rPr>
              <a:t>Високофреквент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7440" y="274320"/>
            <a:ext cx="88282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Једносмерне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Verdana"/>
              </a:rPr>
              <a:t>струј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51920" y="1295280"/>
            <a:ext cx="89917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0000"/>
                </a:solidFill>
                <a:latin typeface="Verdana"/>
                <a:ea typeface="Times New Roman"/>
              </a:rPr>
              <a:t>I</a:t>
            </a:r>
            <a:r>
              <a:rPr b="1" lang="en-GB" sz="22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1" lang="sr-CS" sz="2200" spc="-1" strike="noStrike">
                <a:solidFill>
                  <a:srgbClr val="ff0000"/>
                </a:solidFill>
                <a:latin typeface="Verdana"/>
                <a:ea typeface="Times New Roman"/>
              </a:rPr>
              <a:t>Једносмерне</a:t>
            </a:r>
            <a:r>
              <a:rPr b="1" lang="en-GB" sz="22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ff0000"/>
                </a:solidFill>
                <a:latin typeface="Verdana"/>
                <a:ea typeface="Times New Roman"/>
              </a:rPr>
              <a:t>струје</a:t>
            </a:r>
            <a:r>
              <a:rPr b="1" lang="en-GB" sz="2200" spc="-1" strike="noStrike">
                <a:solidFill>
                  <a:srgbClr val="ff0000"/>
                </a:solidFill>
                <a:latin typeface="Verdana"/>
                <a:ea typeface="Times New Roman"/>
              </a:rPr>
              <a:t> (</a:t>
            </a:r>
            <a:r>
              <a:rPr b="1" lang="sr-CS" sz="2200" spc="-1" strike="noStrike">
                <a:solidFill>
                  <a:srgbClr val="ff0000"/>
                </a:solidFill>
                <a:latin typeface="Verdana"/>
                <a:ea typeface="Times New Roman"/>
              </a:rPr>
              <a:t>фреквенција</a:t>
            </a:r>
            <a:r>
              <a:rPr b="1" lang="en-GB" sz="2200" spc="-1" strike="noStrike">
                <a:solidFill>
                  <a:srgbClr val="ff0000"/>
                </a:solidFill>
                <a:latin typeface="Verdana"/>
                <a:ea typeface="Times New Roman"/>
              </a:rPr>
              <a:t> 0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	</a:t>
            </a:r>
            <a:r>
              <a:rPr b="1" lang="en-GB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1. </a:t>
            </a:r>
            <a:r>
              <a:rPr b="1" lang="sr-CS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Једносмерна</a:t>
            </a:r>
            <a:r>
              <a:rPr b="1" lang="en-GB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галванска</a:t>
            </a:r>
            <a:r>
              <a:rPr b="1" lang="en-GB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струја</a:t>
            </a:r>
            <a:r>
              <a:rPr b="1" lang="en-GB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sr-Latn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а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абилна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галванизација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	</a:t>
            </a:r>
            <a:r>
              <a:rPr b="1" lang="en-GB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2. </a:t>
            </a:r>
            <a:r>
              <a:rPr b="1" lang="sr-CS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Специјални</a:t>
            </a:r>
            <a:r>
              <a:rPr b="1" lang="en-GB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облици</a:t>
            </a:r>
            <a:r>
              <a:rPr b="1" lang="en-GB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примене</a:t>
            </a:r>
            <a:r>
              <a:rPr b="1" lang="en-GB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галванске</a:t>
            </a:r>
            <a:r>
              <a:rPr b="1" lang="en-GB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струје</a:t>
            </a:r>
            <a:r>
              <a:rPr b="1" lang="en-GB" sz="2200" spc="-1" strike="noStrike">
                <a:solidFill>
                  <a:srgbClr val="0000ff"/>
                </a:solidFill>
                <a:latin typeface="Verdana"/>
                <a:ea typeface="Times New Roman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а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негативна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електролиз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б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јонофорез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ц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хидрогалванске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хидроелектричне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купк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д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електрофореза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леков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ff0000"/>
                </a:solidFill>
                <a:latin typeface="Verdana"/>
                <a:ea typeface="Times New Roman"/>
              </a:rPr>
              <a:t>II</a:t>
            </a:r>
            <a:r>
              <a:rPr b="1" lang="en-GB" sz="22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1" lang="sr-CS" sz="2200" spc="-1" strike="noStrike">
                <a:solidFill>
                  <a:srgbClr val="ff0000"/>
                </a:solidFill>
                <a:latin typeface="Verdana"/>
                <a:ea typeface="Times New Roman"/>
              </a:rPr>
              <a:t>Једносмерне</a:t>
            </a:r>
            <a:r>
              <a:rPr b="1" lang="en-GB" sz="22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ff0000"/>
                </a:solidFill>
                <a:latin typeface="Verdana"/>
                <a:ea typeface="Times New Roman"/>
              </a:rPr>
              <a:t>импулсне</a:t>
            </a:r>
            <a:r>
              <a:rPr b="1" lang="en-GB" sz="22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ff0000"/>
                </a:solidFill>
                <a:latin typeface="Verdana"/>
                <a:ea typeface="Times New Roman"/>
              </a:rPr>
              <a:t>струје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(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до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1000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Н</a:t>
            </a:r>
            <a:r>
              <a:rPr b="1" lang="sr-Latn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z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а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Latn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Leduck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-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ова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ру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б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Latn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Bernard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-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ове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ДДС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ру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ц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експоненцијалне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рује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Коваршчик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д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модулисане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ру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1200" y="0"/>
            <a:ext cx="8661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Наизменичне</a:t>
            </a:r>
            <a:r>
              <a:rPr b="0" lang="sr-Latn-CS" sz="4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sr-CS" sz="4400" spc="-1" strike="noStrike">
                <a:solidFill>
                  <a:srgbClr val="000000"/>
                </a:solidFill>
                <a:latin typeface="Verdana"/>
              </a:rPr>
              <a:t>стру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28240" y="7617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III</a:t>
            </a:r>
            <a:r>
              <a:rPr b="1" lang="en-GB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Статички</a:t>
            </a:r>
            <a:r>
              <a:rPr b="1" lang="en-GB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електрицитет</a:t>
            </a:r>
            <a:r>
              <a:rPr b="1" lang="en-GB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 (</a:t>
            </a:r>
            <a:r>
              <a:rPr b="1" lang="sr-C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франклинизација</a:t>
            </a:r>
            <a:r>
              <a:rPr b="1" lang="en-GB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IV</a:t>
            </a:r>
            <a:r>
              <a:rPr b="1" lang="en-GB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1" lang="sr-C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Наизменичне</a:t>
            </a:r>
            <a:r>
              <a:rPr b="1" lang="en-GB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Verdana"/>
                <a:ea typeface="Times New Roman"/>
              </a:rPr>
              <a:t>стру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.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рује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ниске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фреквенције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(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до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1000 </a:t>
            </a:r>
            <a:r>
              <a:rPr b="1" lang="sr-Latn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Hz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фарадск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руј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б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транскутан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електришн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неуралн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имулациј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ТЕНС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2.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рује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средње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фреквенције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еко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1000 </a:t>
            </a:r>
            <a:r>
              <a:rPr b="1" lang="sr-Latn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Hz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рује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средње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фреквенције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-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интерферентне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emec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руј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б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Синусоидно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модулисане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рује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Руск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имулациј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3.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Високофреквентне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струје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- 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преко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100.000 </a:t>
            </a:r>
            <a:r>
              <a:rPr b="1" lang="sr-Latn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H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Д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'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Арсонвализациј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фреквенциј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100.000 </a:t>
            </a:r>
            <a:r>
              <a:rPr b="1" lang="sr-Latn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Hz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б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Дуготаласн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дијатермиј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фреквенциј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500.000 - 1.000.000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ц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краткоталасн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дијатермиј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фреквенциј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10-100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М</a:t>
            </a:r>
            <a:r>
              <a:rPr b="1" lang="sr-Latn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H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д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ултракараткоталасн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дијатермиј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фреквенциј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434,78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М</a:t>
            </a:r>
            <a:r>
              <a:rPr b="1" lang="sr-Latn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Hz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е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микроталасн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дијатермиј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(</a:t>
            </a:r>
            <a:r>
              <a:rPr b="1" lang="sr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фреквенција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2.450 </a:t>
            </a:r>
            <a:r>
              <a:rPr b="1" lang="sr-Latn-C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Hz</a:t>
            </a: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Биофизички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основи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дејства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електричне</a:t>
            </a:r>
            <a:r>
              <a:rPr b="0" lang="sr-Latn-C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Calibri"/>
              </a:rPr>
              <a:t>струј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Човечиј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рганиза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ложе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аство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лектроли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Електричн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водљивост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кив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вис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адржај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ч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ајбољ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вод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рв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имф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иквор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затим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аренхимск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орган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ишић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лаб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водниц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асн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киво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етив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роводе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ув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жа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окти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дла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5T08:48:43Z</dcterms:created>
  <dc:creator>WIN98SE</dc:creator>
  <dc:description/>
  <dc:language>en-US</dc:language>
  <cp:lastModifiedBy>Info</cp:lastModifiedBy>
  <dcterms:modified xsi:type="dcterms:W3CDTF">2018-10-11T08:41:14Z</dcterms:modified>
  <cp:revision>79</cp:revision>
  <dc:subject/>
  <dc:title>Elektroterapija</dc:title>
</cp:coreProperties>
</file>